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2766-168E-4063-AF72-E1F4B1F7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A63D-FA71-47BC-A611-F6A485D8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2F4167-C6FE-4806-9FAC-E604B122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DC6AB4-0376-4BA6-8F7C-38DDF22C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C19638-ED04-459B-9E6E-A451602A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F7E737-B86E-437E-B787-47358F8F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583E9D-F559-4EA9-A028-7E9E8CA6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568A41-AD3C-497D-837F-C2DBDEA3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9F5299-5A30-4093-9C17-ECE8E60B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F47619-340B-49D8-BD7D-BA06D9FD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5EA7EA-CE7C-426F-BD69-068957E3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B42DB2-AD95-4CCF-9704-B018BAD4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4D45-E2A7-43CF-B2C7-5170D407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72F775-2F4E-4B92-8CFA-1F066BE2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7F09C7-35DC-4CFE-B03A-134F0E2A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05F334-8B50-4BB1-AD9D-0E22E4B8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03FAD9-5249-4E12-9C8D-232338F7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670A03-2E33-418D-8893-9A4DE467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5A18ED-53F9-41DB-9EA9-6B73474C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C40407-8C28-47C7-8D1D-1F0AF678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815543-423C-4F90-AB6D-DC42894E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3142F4-821D-49CB-B9DD-490A8F26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610E6D-0F9B-4022-9032-25E3AEBB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8D7E-4FF0-41F4-836C-3F5BCF5D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E9AD5F-D70B-4540-A4A8-E73D2539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774C8F4-C026-4F9E-92B5-A0E1211E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272DCA-815A-43A8-B320-B559CD22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7EBECF-F76D-4E41-9814-7E86CE4E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703624-9209-4964-BA5E-E445F986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51DF0F-236F-45EC-A471-124CCF14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56C7E2-D4EE-4455-A158-CA3F998E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F6AAE6-6E3F-4F65-8D90-03C6424D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D03B50A-A705-4932-A071-725C2CB2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EA9492-B0B3-4337-A59C-C946A003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BB76-E4D8-465D-93A0-47ED7A24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F82DAE-D17D-4A9A-A6F8-0EF5C7AD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F296DF-724C-42A9-A3AE-73C6017A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FE30E5-92FC-489F-BC28-C3C20F9E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BB46-EB60-46C3-AE61-8A0EA276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8D4E-6291-4461-B63E-B672071E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3D30-6995-4851-BEE9-3E4C6408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8A15-FFCE-4C22-87A5-FF209779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DA00-A015-4E28-98A2-AFA4087B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F281-0747-4CC0-9082-E0E1A7FE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2712-FA75-4128-8A82-8E677B33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5A4E-B6CB-4938-8D29-DE7E098A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393C-C795-44AE-8EF3-C9429B8F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C161-BC76-4FA1-8BD3-9F3D57DC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79B6-45B2-4F39-8B14-8FA5719A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1A10-EE74-44CB-82B5-BC11BB39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A0664-480B-476A-9A16-D4973C60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6D7EF-58B2-4AB9-8B2F-A149F7A0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3EDE8-DB64-4243-829D-E4007028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E4EF7-557B-4BCB-9E7F-9E5D72B4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1211D-9FD6-463F-BB3D-3EF0F556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0F4F-6AAF-45D7-BCA0-65937C72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DAED7-5E13-4A97-9691-2F09D56A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278F0-EF5A-4905-A887-2B886B59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1E5AA-691D-4AC8-BB8A-ADAEE443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E3B00-F340-46AD-B1E0-7B910385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134E5-A488-4F0A-AD4D-9529B9FE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31C82-D4F0-4CC6-85B3-95B570D3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1921F-931C-4893-A513-B1CF5EF9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DF49D-C13E-4D7D-AF3A-347243AF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5C176-F388-4CED-8B04-1352ABDD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84AC4-243E-46F0-91D6-60D7ECCF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1D1B-739E-4668-8E37-C4E23603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5DB26-826E-4507-8803-33A7100E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08C97-B79A-4B21-A5A7-BD58D5D3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F7E85-D36D-4D6A-BEB0-295A26D9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3AB19-01B5-4099-96A3-568C13C9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4125F-785E-4A81-BF56-C8684EF3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FC523-1D3E-48C4-8652-F5B35E82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1CEE8-1DF2-44A6-A624-A38B1B56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84E2A-9AF6-4C39-AC38-19B22377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44ADB-CBBA-40FB-A588-A8AA81AB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3EE17-E7C1-4D25-894E-6140101A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412A-648C-400C-B62A-8F3DCBEB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75EFE-E752-4EF4-9934-17F3A5BC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BFC14-41DA-4B6C-A6CC-8EB655E7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99D01-2341-4787-8F08-072A1B7B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77641-24BC-40E8-962A-4240CD43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E41EF-F779-4B24-B683-AED388FD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96A32-0035-4AB6-A1BC-5FAF1973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B2399-CFF7-4EC7-97C3-CB635142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E2473-B4C7-4617-A1DA-DD34EF55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02B4B-AEE3-42AE-B872-70D7C981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C82B7-757B-4A9A-9BF3-EBEA12A6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9A85-0B63-4C10-975D-5BAA41C9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AD11F-84D6-417B-BFB5-20A8953D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C9D0F-2E16-4735-98B3-4DE7F27A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B83BD-B428-41ED-AACE-42B4494D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B64D6-4435-4CF5-B911-4377D0FD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46B64-1496-466E-8C0E-1CE16CC7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F61D7-7E8C-4CC9-A618-5CADD0E2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B3743-E763-4354-963D-45F61217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6F4D7-24C0-46B9-9EF0-AF269D3E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25B33-B216-4B63-B4FC-0FF023EE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88FBF-8DB5-4B1F-AE35-80C103D3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6309-F27C-469B-BB41-42D1D058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C48A5-52CF-481B-BD85-2DADF77F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A3A29-DF03-4B02-9DCC-35E4AA72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5F2E7-D5D7-4071-A6F6-7FF92A83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8A179-EC70-47F2-A4FF-7E66BD00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AB6DA-38A2-4144-B149-C9C80FE9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CAAA7-DD53-406D-90BD-184895A1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EFA21-FDAD-4D5E-97DB-815C4125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D20E6-C8EF-44B3-9E86-83440BC3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3D996-D2E2-4DD0-9E1E-7F8ECBC0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AB83B-9D3F-488C-8022-A4DD23DD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20DE-28B4-44BA-B724-D852AA9C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42765-F8A9-43F7-B33F-C8693360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EC2CB-39CD-48EC-BE35-D58FB207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4B4A7-4B93-4D60-95CD-81CDD8BD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240FF-000D-4221-AF36-3702FCB7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EC44F-2FD7-4DF0-9583-D78AAA65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51734-6F54-43D3-AE4D-D2D37E74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8CABC-4881-460B-BABA-E38FA2CF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78EE8-8B1C-40CE-946B-DD2540B7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58551-2CF6-4BDE-99F5-05427372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D9B8B-D441-430D-9ABF-F966F36B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27E3-3D69-4877-A1B8-B6F5EAAA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39523-5354-4E62-B259-2C7679F2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0E2D1-BCCC-4FBF-A30E-EDDB6D1C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E769C-F71D-468D-8AF4-C85C16FD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FA558-AD05-4F61-9429-A44088B7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DA904-1452-48B6-B261-1C46349D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CBEC5-130A-4C4A-82E7-C910361E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DC394-4FE2-4B9C-8F14-9D82C258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D7D56C-104D-469A-9E9C-0D4D11E9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6A0A93-151A-4D06-BFD9-9A1886BE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7969A5-598A-4F2A-8DED-9871E906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627E-F09E-420A-A86B-4C521D1C589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E8A3-5D1A-4E53-AA8C-455085D002C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9286-1FBA-4A26-B5FC-A5392BD07A5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365C-157E-4263-A523-FF64E8465FC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55C7-CEF5-46D0-B1EF-D5E27C60A2E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AAA4-1E07-4FA3-8B86-B823829F7B9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60AD-E83F-4E43-8369-6357ADBDF98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E0B3-45C5-4FA0-92B9-8A114871BB2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4F6C-5A0E-40CA-9314-40F223736BC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D1AB-3C2B-44AE-BCAB-7A2543F0A8B3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8007-C11F-4C67-8A67-12AB78D1E1A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 TIMELINE OF EVENT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FROM 1936-1941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d16349"/>
                </a:solidFill>
                <a:latin typeface="Georgia"/>
              </a:rPr>
              <a:t>The Road to WW II:</a:t>
            </a:r>
            <a:br>
              <a:rPr sz="4200"/>
            </a:br>
            <a:r>
              <a:rPr b="1" lang="en-US" sz="4200" spc="-1" strike="noStrike">
                <a:solidFill>
                  <a:srgbClr val="d16349"/>
                </a:solidFill>
                <a:latin typeface="Georgia"/>
              </a:rPr>
              <a:t>1936-1941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39-1940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October 1939: Poland surrende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October 1929: USSR invades Estoni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November 1939-March 1940: Winter War—USSR v. Finla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November 1939: US Neutrality Acts—Br &amp; Fr may buy arms but only cash bas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October 1939-April1940: </a:t>
            </a:r>
            <a:r>
              <a:rPr b="0" i="1" lang="en-US" sz="2700" spc="-1" strike="noStrike">
                <a:solidFill>
                  <a:srgbClr val="111618"/>
                </a:solidFill>
                <a:latin typeface="Georgia"/>
              </a:rPr>
              <a:t>Sitzkrieg</a:t>
            </a: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 or Phony W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April : Germany attacks Denmark &amp; Norwa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y: Germany attacks Low Countries &amp; Fra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y: Winston Churchill becomes PM of Great Britai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40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une: Italy declares war on Br &amp; F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une: France fal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une: Soviet led coups in Baltic Stat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uly: Vichy Government established in Fra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uly: US begins earliest stage of planning for mobiliz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uly: Battle of Britain begi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September: USA begins 1</a:t>
            </a:r>
            <a:r>
              <a:rPr b="0" lang="en-US" sz="2700" spc="-1" strike="noStrike" baseline="30000">
                <a:solidFill>
                  <a:srgbClr val="111618"/>
                </a:solidFill>
                <a:latin typeface="Georgia"/>
              </a:rPr>
              <a:t>st</a:t>
            </a: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 peacetime conscription in its histor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September: Japan occupies Indochin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40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September: Tripartite Pact—Germany, Italy &amp; Japan pledge mutual assistance; Axis emerges as term (Hungary, Romania, Slovak Republic will later joi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October: Germany postpones any invasion of Britain (Operation Sealio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October: Italy invades Gree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November: Franklin D. Roosevelt wins unprecedented 3</a:t>
            </a:r>
            <a:r>
              <a:rPr b="0" lang="en-US" sz="2700" spc="-1" strike="noStrike" baseline="30000">
                <a:solidFill>
                  <a:srgbClr val="111618"/>
                </a:solidFill>
                <a:latin typeface="Georgia"/>
              </a:rPr>
              <a:t>rd</a:t>
            </a: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 term as US Preside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December: Italy request German military assistance vs. Gree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4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February: German forces arrive in North Africa to aid Italy (June 1940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rch: US begins Lend-Lease (begins US supply of material to Br, Fr, China, &amp; USSR; ends pretext of US neutrality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April: German begins invasion of Greece &amp; Yugoslavi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April: US volunteer pilots arrive in China to fight Japanese (Flying Tiger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April: US begins sea patrols in Atlantic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4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22 June 1941: Operation Barbarossa—German invasion of USS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une: US freezes all German &amp; Italian asse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uly: USSR begins scorched earth polic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uly: Yugoslavia dissolved into component parts by Axis invade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uly: US seizes all Japanese assets in US (response to Indochina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uly: Japan occupies rest of Indochin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August: US announces oil embargo of Japan (US Supplied more than 80% of Japan’s oil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4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August: Atlantic Charter signed by Churchill &amp; Roosevelt (vision of post-war world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September: US Navy authorized to shoot on sight if convoy or ship threatened by U-Boats &amp; raide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October: Lend-Lease extended to USSR (where Leningrad &amp; Moscow under sieg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26 November: Hull Note demands Japanese troops withdraw from Indochina (Cordell Hull, US Sec of Stat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4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August: Atlantic Charter signed by Churchill &amp; Roosevelt (vision of post-war world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September: US Navy authorized to shoot on sight if convoy or ship threatened by U-Boats &amp; raide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October: Lend-Lease extended to USSR (where Leningrad &amp; Moscow under sieg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26 November: Hull Note demands Japanese troops withdraw from Indochina (Cordell Hull, US Sec of Stat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4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26 November: Japanese fleet heads for Hawai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2 December: Tojo (military PM of Japan) reject US peace feele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5 December: Germans ends attack on Moscow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7 December: Japan attacks Pearl Harbo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7 December: Japan attacks US in Guam &amp; Wake Island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7 December: Japan invades Thailand &amp; British Malay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4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8 December: US declares war on Japan (Br, NZ &amp; Netherlands also declare war on Japa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9 December: China &amp; Australia declare war on Jap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11 December: Germany &amp; Italy declare war on US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11 December: US reciprocates &amp; declares war on Germany &amp; Ital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World War II not fully engag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36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01320" y="1527120"/>
            <a:ext cx="85042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February: ratification of Franco-Soviet Pac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rch: Hitler remilitarizes Rhinela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rch: Italy wins last battle in war w/Ethiopi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y: Italy annexes Ethiopia &amp; merges it w/Eritrea and Somaliland to form Italian East Afric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uly: Spanish Civil War begins—Hitler &amp; Mussolini send troops &amp; aircraft to assistance Generalissimo Francisco Franco and his Nationalis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October: Rome-Berlin Ax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Anti-Comintern Pact: Germany &amp; Japan pledge to fight international communis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37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01320" y="1527120"/>
            <a:ext cx="85042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anuary: Japan withdraws from Washington Conference (which limited size of the navy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une: Stalin begins purge of Red Arm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uly: Marco Polo Bridge Incident begins second Sino-Japanese W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November: Hossbach Memorandum—foreign policy goal to be </a:t>
            </a:r>
            <a:r>
              <a:rPr b="0" i="1" lang="en-US" sz="2700" spc="-1" strike="noStrike">
                <a:solidFill>
                  <a:srgbClr val="111618"/>
                </a:solidFill>
                <a:latin typeface="Georgia"/>
              </a:rPr>
              <a:t>Lebensraum</a:t>
            </a: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 &amp; the need to seize Austria &amp; Czechoslovakia to military &amp; foreign policy leade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November: Italy joins Anti-Comintern Pac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November: Rape of Nank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38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01320" y="1526760"/>
            <a:ext cx="85042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rch: </a:t>
            </a:r>
            <a:r>
              <a:rPr b="0" i="1" lang="en-US" sz="2700" spc="-1" strike="noStrike">
                <a:solidFill>
                  <a:srgbClr val="111618"/>
                </a:solidFill>
                <a:latin typeface="Georgia"/>
              </a:rPr>
              <a:t>Anschluss</a:t>
            </a: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 w/Austria—</a:t>
            </a:r>
            <a:r>
              <a:rPr b="0" i="1" lang="en-US" sz="2700" spc="-1" strike="noStrike">
                <a:solidFill>
                  <a:srgbClr val="111618"/>
                </a:solidFill>
                <a:latin typeface="Georgia"/>
              </a:rPr>
              <a:t>Gau Ostmark</a:t>
            </a: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 (Greater Germany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rch: Hitler begins advocating equality for Germans in Czechoslovakia’s Sudetenland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y: May Crisis leads to Cz, Br, Fr &amp; USSR promise to resist a German attack on Czechoslovaki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y: Hitler issues Case Green a directive to occupy Czechslovaki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September: Munich Agreement &amp; annexation of Sudetenland into German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39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1320" y="1526760"/>
            <a:ext cx="85042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anuary: Neville Chamberlain recognizes Franco govt. in Spain (largely criticized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anuary: Hitler Speech–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clares if Jews want war they will get it &amp; be annihilat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rch: Czech president accepts making a region a protectorate of Germany; Slovakia &amp; Ruthenia declares independence of Czechoslovaki (Rump Stat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rch: Germany occupies Czechoslovaki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rch: France declares intent to increase defense spend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39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1320" y="1526760"/>
            <a:ext cx="85042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rch: Soviets suggests collective action by USSR, Br, Fr, Poland &amp; Romania aimed at German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rch: Britain gives minimal interest to Soviet sugges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rch: Hitler reiterates return of Danzig &amp; Polisg Corridor to German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rch: Memel returned to &amp; occupied by Germany (Lithuania); Poland cautions Germany on similar action w/Danzi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rch: British decide to side work w/Poland instead of multinational approach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39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1320" y="1526760"/>
            <a:ext cx="85042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rch: Britain &amp; France declare intention to support by Pola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April: Franco wins Spanish Civil W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April: Hitler issues Case White—planned invasion of Pola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April: USSR proposes 10 year alliance w/Br &amp; F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April: Hitler denounces the non-aggression pact w/Poland (1934) &amp; Anglo-German Naval Agreement, demands return of Danzig, and declares Anglo-Polish Pact directed at German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39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1320" y="1526760"/>
            <a:ext cx="85042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y: Germany offers Scandinavian countries non-aggression pacts, only Denmark accep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y-Sept: Japan &amp; Soviet border clashes go poorly for Japan, looks south &amp; east—US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May: Pact of Steel between Italy &amp; Germany support in event of w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July: USA withdraws from a commercial treaty w/Jap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August: Poland rejects Soviet request to send troops into Pola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1939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August: Germany &amp; USSR sign trade agreeme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23 August: Nazi-Soviet non-Aggression Pac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25 August: British-Polish common defense pact signed; Mussolini informs Hitler that Italy not ready for war ye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26 August: Hitler postpones invasion of Poland until 1 Septemb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27 August: Br &amp; Fr try to persuade Poland to negotiate w/Germany—refu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1 September: Germany invades Pola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11618"/>
                </a:solidFill>
                <a:latin typeface="Georgia"/>
              </a:rPr>
              <a:t>3 September: Br &amp; Fr declare war on German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11:57:41Z</dcterms:created>
  <dc:creator>Russ</dc:creator>
  <dc:description/>
  <dc:language>en-US</dc:language>
  <cp:lastModifiedBy>Russ</cp:lastModifiedBy>
  <dcterms:modified xsi:type="dcterms:W3CDTF">2011-01-17T11:00:23Z</dcterms:modified>
  <cp:revision>39</cp:revision>
  <dc:subject/>
  <dc:title>The Road to WW II: 1936-1939</dc:title>
</cp:coreProperties>
</file>